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447-7FD4-460A-90BD-AAE8562B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0AC1-D238-41F7-9141-4C1FE6AD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9F27-8417-4DDD-859F-D9DCBD8F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BE47-AE85-4D75-8F42-41C9AABE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1FE4C-1037-4E10-8143-494685FE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DE51B-F535-4ED9-9B3F-5C6C9048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3C2D9-8A73-4D2B-8D65-33983BEB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31A60-60D6-46C5-B955-C9625E3F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44F09-310B-44E7-BFA6-819363A7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3765C-8256-4588-91F6-DA48F4CC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F42DE-8DB7-4234-9398-227C69F8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8792-88FF-4085-BE0C-0E7D61AB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A6FB2-74D1-4E4E-A317-943033AF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D9AED-C344-46AC-A2DE-10E73CC5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4EA90-B24B-4F28-9B8C-1783089A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E9928-1992-417F-AE1D-76E97348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BABA3-A17D-4EE9-B734-91D50BD1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16B7D-9066-45AD-B0F8-525F6A04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CCFE2-0A5A-4BC7-AA3A-B930314C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C5D40-204A-4AA1-8540-403C4182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6EE08-C93E-4D87-ABD5-11B65592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C04E2-7553-441E-ADBB-15A87968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C5DE-065C-44EB-9F1B-2A4528C3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74323-A545-4A7F-89E0-92B1E469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CA7B1-09C0-44C1-8567-4469499A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DB19D-005D-4598-B79D-8A9DF7D1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D5BA7-BB1A-45D3-A24A-A2D00EF1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19125-3CB7-41EC-BB6E-54544AF3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0B1E1-E26D-4A10-952A-3DA36E2F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9CD02-68AC-4C00-8CC1-9112F686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B55BE-8458-4B06-9EC4-3741A2E0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E5D59-F623-45AC-857E-A5F36290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56D18-D34D-47F1-A747-0A5A795C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8AF3-0EA4-4218-BC35-93095F51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39B3A-FA8C-4355-B159-49F9864C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F4251-26D9-45B6-BAC5-F069FFAC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11AE9-0F96-496A-8024-4637B8F6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F6105-068B-4F7F-9C96-B5AED969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A271A-11D4-4177-A168-E9F4AF8F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70D20-3116-4E50-A4B7-4E9B6761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4911F-E5B9-41C8-859B-D5AE3EB1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82A77-880B-4696-BF1A-7FD188B4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89BF2-7638-4C35-9E03-C88873C8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E597C-123D-4F9F-9BCE-29386667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4F8-CA18-4394-94E6-6D8BA11A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0AF2B-21AC-413F-88D7-6DECD2F1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96207-450D-4F77-BF5C-4E05642E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A1013-4D67-499B-8110-97939337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5DFDC-594F-45B8-9F5B-D4ECE5B0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6C218-601C-461E-8371-16C2336F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192E5-2401-4B16-867E-2D051714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F8781-0447-44A2-883E-7D15F90F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B1706-B80B-40D6-854D-4946EC0C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24BE5-F72F-43CC-B8FB-AC82A7F7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DFA35-AE81-4C2A-A9C3-F9965CA3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CAF-9F76-46DC-91A8-BD4E4D08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37F63-7DE4-4986-BD88-B72E0943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679E7-D00A-4562-AA61-C6B10BDD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A0001-FAA8-41E9-91FE-97FF292F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9352D-1985-4EB7-B568-0132E44B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C4C61-ABEC-4300-B9BB-4498D80D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A55E4-617C-4C02-A22A-3A66BB0C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76680-B365-441C-AA7A-1C672044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86329-C9E2-4769-9E83-6821DFDC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E8A50-F0E5-4C4B-9331-5100CDD7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D556F-251A-4EF7-B8A7-6A555B8F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0FD-5376-4B6A-B437-B464F737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18D48-9A22-4F95-9BAC-D810396F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3BCAC-CD31-491A-93EE-89B076EB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9C982-59AE-4A42-B77B-042BEB49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C70-84D9-4CEB-94D8-602675CC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BBDB-12D4-458E-87CF-5B0CE97B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BAB3-74DD-4985-ADEE-9F8C46471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0023-B6E5-4236-858E-F25552CF9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E5CD-96C6-4FAE-BCC9-5AEC3066E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2237-6BB5-48E9-984E-ED0723A2A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0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0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0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1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1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C69E-6697-4869-AE73-0017298369F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7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8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8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5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8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9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CE1B-49D1-4208-B42F-0BF1F106216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jjill.com/jjillonline/product/itempage.aspx?item=SB089U&amp;PFID=1215&amp;BID=128004055&amp;h=W&amp;sk=W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store-us.hugoboss.com/Modern-Fit-Three-Button-&#8216;Stratus&#8217;-Coat/hbna50206661,en_US,pd.html?disableSizePreselection=true&amp;cgid=22000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457200" y="304920"/>
            <a:ext cx="85345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La Ropa de Rachel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2743200" y="3049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El Invierno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T's + Thermals"/>
          <p:cNvPicPr/>
          <p:nvPr/>
        </p:nvPicPr>
        <p:blipFill>
          <a:blip r:embed="rId7"/>
          <a:stretch/>
        </p:blipFill>
        <p:spPr>
          <a:xfrm rot="20989200">
            <a:off x="609120" y="2057040"/>
            <a:ext cx="2979720" cy="453060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609480" y="8380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uel lleva un camiseta de azul y rojo y el sombrer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Down Parka"/>
          <p:cNvPicPr/>
          <p:nvPr/>
        </p:nvPicPr>
        <p:blipFill>
          <a:blip r:embed="rId8"/>
          <a:stretch/>
        </p:blipFill>
        <p:spPr>
          <a:xfrm>
            <a:off x="5181480" y="2362320"/>
            <a:ext cx="3426120" cy="38764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6705720" y="533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629400" y="6858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705720" y="6858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abel lleva un chaqueta de color mar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ón y un guantes de muchos col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4"/>
          <a:stretch/>
        </p:blipFill>
        <p:spPr>
          <a:xfrm rot="388800">
            <a:off x="838080" y="1600200"/>
            <a:ext cx="2857680" cy="404820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1295280" y="-152280"/>
            <a:ext cx="67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6600" spc="-1" strike="noStrike">
                <a:solidFill>
                  <a:srgbClr val="ffff00"/>
                </a:solidFill>
                <a:latin typeface="Tahoma"/>
              </a:rPr>
              <a:t>La Primavera</a:t>
            </a:r>
            <a:r>
              <a:rPr b="0" lang="es-CR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58672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aria lleva un vestido de bonita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" descr="LIGHT CARBIDE "/>
          <p:cNvPicPr/>
          <p:nvPr/>
        </p:nvPicPr>
        <p:blipFill>
          <a:blip r:embed="rId5"/>
          <a:stretch/>
        </p:blipFill>
        <p:spPr>
          <a:xfrm rot="370200">
            <a:off x="5829480" y="1909440"/>
            <a:ext cx="2666880" cy="479088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7010280" y="685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blo lleva un 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uéter de gris y pantalones de color marrón.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281952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Tree Summer HD wallpaper for Wide 16:10 5:3 Widescreen WHXGA WQXGA WUXGA WXGA WGA ; HD 16:9 High Definition WQHD QWXGA 1080p 900p 720p QHD nHD ; Mobile WVGA PSP - WVGA WQVGA Smartphone ( HTC Samsung Sony Ericsson LG Vertu MIO ) Sony PSP Zune HD Zen ;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Lacoste + Malandrino Butterfly"/>
          <p:cNvPicPr/>
          <p:nvPr/>
        </p:nvPicPr>
        <p:blipFill>
          <a:blip r:embed="rId2"/>
          <a:stretch/>
        </p:blipFill>
        <p:spPr>
          <a:xfrm rot="365400">
            <a:off x="533520" y="2057400"/>
            <a:ext cx="2768400" cy="415296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Short Sleeve Super Dry Solid Tee-shirt"/>
          <p:cNvPicPr/>
          <p:nvPr/>
        </p:nvPicPr>
        <p:blipFill>
          <a:blip r:embed="rId3"/>
          <a:stretch/>
        </p:blipFill>
        <p:spPr>
          <a:xfrm rot="247800">
            <a:off x="6019560" y="1295280"/>
            <a:ext cx="2730240" cy="409572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6248520" y="53341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rlos lleva el T-shirt de rojo y los pantolones cortos de blanc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09480" y="457200"/>
            <a:ext cx="18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arah lleva un blusa de amarillo y la falda de bonit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19520" y="45720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El veran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puffer vest ">
            <a:hlinkClick r:id="rId2"/>
          </p:cNvPr>
          <p:cNvPicPr/>
          <p:nvPr/>
        </p:nvPicPr>
        <p:blipFill>
          <a:blip r:embed="rId3"/>
          <a:stretch/>
        </p:blipFill>
        <p:spPr>
          <a:xfrm rot="309600">
            <a:off x="228240" y="2209320"/>
            <a:ext cx="2835360" cy="437220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Modern Fit Three Button ‘Stratus’ Coat">
            <a:hlinkClick r:id="rId4"/>
          </p:cNvPr>
          <p:cNvPicPr/>
          <p:nvPr/>
        </p:nvPicPr>
        <p:blipFill>
          <a:blip r:embed="rId5"/>
          <a:stretch/>
        </p:blipFill>
        <p:spPr>
          <a:xfrm rot="252000">
            <a:off x="5790960" y="2209680"/>
            <a:ext cx="2925720" cy="44388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2438280" y="22860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El Oto</a:t>
            </a:r>
            <a:r>
              <a:rPr b="1" lang="en-US" sz="6000" spc="-1" strike="noStrike">
                <a:solidFill>
                  <a:srgbClr val="ffcc00"/>
                </a:solidFill>
                <a:latin typeface="Arial"/>
                <a:ea typeface="Arial"/>
              </a:rPr>
              <a:t>ño</a:t>
            </a:r>
            <a:r>
              <a:rPr b="0" lang="en-US" sz="54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80880" y="533520"/>
            <a:ext cx="19051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big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á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il lleva un chaleco de rosado y blue jeans.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48520" y="533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dri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á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n lleva traje y la corbata de negr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3886200" cy="30747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533520" y="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a bufa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573080" y="-46800"/>
            <a:ext cx="21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as pantuf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4191120" y="45720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2400480" cy="31244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7467480" y="2743200"/>
            <a:ext cx="1371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Los calcetin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4"/>
          <a:stretch/>
        </p:blipFill>
        <p:spPr>
          <a:xfrm>
            <a:off x="152280" y="43434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533520" y="39625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l col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5"/>
          <a:stretch/>
        </p:blipFill>
        <p:spPr>
          <a:xfrm>
            <a:off x="2743200" y="4572000"/>
            <a:ext cx="3295800" cy="212256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124080" y="4038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as gafas de 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7:58:21Z</dcterms:created>
  <dc:creator>hickeyrac</dc:creator>
  <dc:description/>
  <dc:language>en-US</dc:language>
  <cp:lastModifiedBy>hickeyrac</cp:lastModifiedBy>
  <dcterms:modified xsi:type="dcterms:W3CDTF">2011-12-14T13:43:29Z</dcterms:modified>
  <cp:revision>10</cp:revision>
  <dc:subject/>
  <dc:title>Slide 1</dc:title>
</cp:coreProperties>
</file>